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BD6-373F-4464-BBC8-F4EFD366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3BC-5B20-4AFE-8CAB-A2A1BD08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5C2-5A65-43AB-A672-317285D4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375-AFDC-49AE-9CDE-A0C1E45E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7B9-A24D-4D36-949F-2110781F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F49-4B6D-4AB6-9D6F-D4BFC714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0B0-CF3D-41A8-AE75-7039AF50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0B2-4D50-4B5A-80C7-296A611A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326-23E6-4697-A74A-9724A80C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6E9-DDD5-443F-AD5D-7CA160E8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54A-5482-4C40-B502-7288AB02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B20-0415-43BE-B89E-927B920D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A208-0774-4146-92C8-5AA90AA2F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ddJazz"/>
              </a:rPr>
              <a:t>Trefn y W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ddJazz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ddJazz"/>
              </a:rPr>
              <a:t>Tablau - gorffen y daflen goch - 5 munu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ddJazz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ddJazz"/>
              </a:rPr>
              <a:t>Gwir / Gau Uneda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ddJazz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ddJazz"/>
              </a:rPr>
              <a:t>Ymarf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ddJazz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ddJazz"/>
              </a:rPr>
              <a:t>## Estyniad##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ddJazz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ddJazz"/>
              </a:rPr>
              <a:t>Post it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68360" y="260280"/>
          <a:ext cx="8496360" cy="6193080"/>
        </p:xfrm>
        <a:graphic>
          <a:graphicData uri="http://schemas.openxmlformats.org/drawingml/2006/table">
            <a:tbl>
              <a:tblPr/>
              <a:tblGrid>
                <a:gridCol w="4248000"/>
                <a:gridCol w="4248360"/>
              </a:tblGrid>
              <a:tr h="100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ddJazz"/>
                        </a:rPr>
                        <a:t>Mae Keeleigh a Shannon yn pwyso blawd.  Mae Keeleigh yn pwyso 1.73kg a mae Shannon yn pwyso 174.5g o flawd.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800" spc="-1" strike="noStrike">
                          <a:solidFill>
                            <a:srgbClr val="000000"/>
                          </a:solidFill>
                          <a:latin typeface="AddJazz"/>
                        </a:rPr>
                        <a:t>Keeleigh sydd wedi pwyso y mwyaf o flawd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WIR / G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waith Cyfrif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4724280"/>
            <a:ext cx="17938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6:22:41Z</dcterms:created>
  <dc:creator>Betsan Wyn Thomas</dc:creator>
  <dc:description/>
  <dc:language>en-US</dc:language>
  <cp:lastModifiedBy>Betsan Wyn Thomas</cp:lastModifiedBy>
  <dcterms:modified xsi:type="dcterms:W3CDTF">2008-10-07T08:52:44Z</dcterms:modified>
  <cp:revision>2</cp:revision>
  <dc:subject/>
  <dc:title>Slide 1</dc:title>
</cp:coreProperties>
</file>